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3A3-EB0D-4377-82A4-09A79699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E90-6FF3-4868-B0CA-9D314715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240-2A77-41D8-9019-5AE6E773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662-5DAF-4F13-B6AF-68EB59CA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277-0776-4686-B93A-12463E40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0A4-EC62-472F-8F3A-A4B643FA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4D7-8775-40AB-B6F2-4771ECD5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BBE-A46B-4EA3-A36D-AAA3DCC3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AEE-9597-40C7-B57D-605DD1F4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FA6-C01E-414D-8D91-D8C961EC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C27-8596-48A6-B02B-DC95CA2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101-2DAF-4ADC-BD6E-644E4B7F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A869-B25F-4F39-9D1B-3064AA45FD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2362320"/>
            <a:ext cx="462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49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1:00Z</dcterms:modified>
  <cp:revision>205</cp:revision>
  <dc:subject/>
  <dc:title>Slide 1</dc:title>
</cp:coreProperties>
</file>